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8.gif" ContentType="image/gif"/>
  <Override PartName="/ppt/media/image4.png" ContentType="image/png"/>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5.png" ContentType="image/png"/>
  <Override PartName="/ppt/media/image19.gif" ContentType="image/gif"/>
  <Override PartName="/ppt/media/image1.png" ContentType="image/png"/>
  <Override PartName="/ppt/media/image3.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B6B72-9C92-491B-B3C9-3EAA24E41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D5006-0BBD-4E6B-81CD-C693DB67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9F5FB-5C75-43C2-A173-18F245B8F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34542-937E-43BF-862B-694EAF4FD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A179-92F6-4D70-895E-DD6E3157A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32605-AA3A-42C6-B708-E33BE690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EDF22-0CCD-4430-BBEF-CB3F4EB0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40BE-AB53-45FF-9064-394510B1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AED1-516A-44B2-9784-3354391C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CDF71-9240-456F-A465-C381E7D0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7DA0F-4069-492A-9539-F9A912899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F891-E31C-4B6B-B2B3-29DEF485C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E1EF-F551-4990-A372-4711BDA44A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hyperlink" Target="http://eric.ed.gov/ERICDocs/data/ericdocs2sql/content_storage_01/0000019b/80/2a/54/f9.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3480"/>
            <a:ext cx="9144000" cy="6824520"/>
          </a:xfrm>
          <a:prstGeom prst="rect">
            <a:avLst/>
          </a:prstGeom>
          <a:ln w="0">
            <a:noFill/>
          </a:ln>
        </p:spPr>
      </p:pic>
      <p:sp>
        <p:nvSpPr>
          <p:cNvPr id="42" name="PlaceHolder 1"/>
          <p:cNvSpPr>
            <a:spLocks noGrp="1"/>
          </p:cNvSpPr>
          <p:nvPr>
            <p:ph type="title"/>
          </p:nvPr>
        </p:nvSpPr>
        <p:spPr>
          <a:xfrm>
            <a:off x="457200" y="914040"/>
            <a:ext cx="815328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Research on the effects of technology use on the teaching and learning of mathema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1143000"/>
            <a:ext cx="91440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put &gt; Outpu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frequency of classroom use of computers - </a:t>
            </a:r>
            <a:r>
              <a:rPr b="0" lang="en-US" sz="2400" spc="-1" strike="noStrike">
                <a:solidFill>
                  <a:srgbClr val="000000"/>
                </a:solidFill>
                <a:latin typeface="Arial"/>
              </a:rPr>
              <a:t>did not appear to translate into higher test scores</a:t>
            </a:r>
            <a:endParaRPr b="0" lang="en-US" sz="2400" spc="-1" strike="noStrike">
              <a:solidFill>
                <a:srgbClr val="000000"/>
              </a:solidFill>
              <a:latin typeface="Arial"/>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age of computers</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udents who used computers less but for the purpose of specific applications and real problem solving (higher order skills learning) score better than students who use computers frequently for drilling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52280" y="555480"/>
            <a:ext cx="8686800" cy="61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Role of computer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develop students’ computer skills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learning efficiently and effectively</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the lower order processes more efficient in solving problem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 learning where students can examine further examples and representations as well</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orm learning in which students explore graphical content that is difficult to understand without the use of compu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ital – guide and facilitate drill and practice as well as using computers to apply higher order thinking skill (H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txBox="1"/>
          <p:nvPr/>
        </p:nvSpPr>
        <p:spPr>
          <a:xfrm>
            <a:off x="762120" y="182880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rPr>
              <a:t>More effects...</a:t>
            </a:r>
            <a:endPar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ea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8763120" cy="733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ng children’s use of calculator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ll not become reliant of calculator when they know other methods of comput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perform better in interpreting their answer for example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nstrate better understanding of negative numbers, place value in large numbers and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uccessful as problem solvers for the weak ones when given access to calculator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more confidence when attacking matematical problem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itude towards mathematics improve when calculator is part of the classroom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304920"/>
            <a:ext cx="8763120" cy="24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interaction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s the nature of interaction and role of teacher in which teacher plays the role of consultants prompting students in discu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0" y="2444760"/>
            <a:ext cx="8763120" cy="51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ttitude</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students interest in learning mathematic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onfidence in students learning process for instance solving complex mathematical problem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a mechanism for students to discover own errors when they check their answer</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ke them able to see clearly mathematical connections and to focus on the concep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1600200"/>
            <a:ext cx="876312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rich learning environment simulates and improves students understanding on mathematical concept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perform better in mathematical modelling task and general problem solving task.</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interactive learning – promotes exploration, generalizations and reasoning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rot="21412200">
            <a:off x="1990440" y="2741760"/>
            <a:ext cx="563868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rPr>
              <a:t>Conclusion</a:t>
            </a:r>
            <a:endPar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ea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267080" cy="6858000"/>
          </a:xfrm>
          <a:prstGeom prst="rect">
            <a:avLst/>
          </a:prstGeom>
          <a:ln w="0">
            <a:noFill/>
          </a:ln>
        </p:spPr>
      </p:pic>
      <p:sp>
        <p:nvSpPr>
          <p:cNvPr id="78" name=""/>
          <p:cNvSpPr/>
          <p:nvPr/>
        </p:nvSpPr>
        <p:spPr>
          <a:xfrm>
            <a:off x="2438280" y="1066680"/>
            <a:ext cx="6400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chnology serves as a teaching and learning tool in reinforcing students’ understanding towards mathematics. This is because students should be able to visualize in order to make connection to the mathematics concepts. Thus, this helps in achieving the desirable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985000" y="2819520"/>
            <a:ext cx="2968560" cy="3848040"/>
          </a:xfrm>
          <a:prstGeom prst="rect">
            <a:avLst/>
          </a:prstGeom>
          <a:ln w="0">
            <a:noFill/>
          </a:ln>
        </p:spPr>
      </p:pic>
      <p:sp>
        <p:nvSpPr>
          <p:cNvPr id="80" name=""/>
          <p:cNvSpPr txBox="1"/>
          <p:nvPr/>
        </p:nvSpPr>
        <p:spPr>
          <a:xfrm>
            <a:off x="762120" y="1752480"/>
            <a:ext cx="7467480" cy="221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Blackadder ITC"/>
              </a:rPr>
              <a:t>Do you agree?</a:t>
            </a:r>
            <a:endParaRPr b="1" lang="en-US" sz="6600" spc="1" strike="noStrike">
              <a:ln w="9360">
                <a:solidFill>
                  <a:srgbClr val="000000"/>
                </a:solidFill>
                <a:miter/>
              </a:ln>
              <a:solidFill>
                <a:srgbClr val="000000"/>
              </a:solidFill>
              <a:latin typeface="Blackadder ITC"/>
              <a:ea typeface="Blackadder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7566120" y="5029200"/>
            <a:ext cx="1577880" cy="1828800"/>
          </a:xfrm>
          <a:prstGeom prst="rect">
            <a:avLst/>
          </a:prstGeom>
          <a:ln w="0">
            <a:noFill/>
          </a:ln>
        </p:spPr>
      </p:pic>
      <p:sp>
        <p:nvSpPr>
          <p:cNvPr id="83" name=""/>
          <p:cNvSpPr/>
          <p:nvPr/>
        </p:nvSpPr>
        <p:spPr>
          <a:xfrm>
            <a:off x="1523880" y="4876920"/>
            <a:ext cx="6096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memb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Farah Filzah Azizuddin, Izyan Ismail, Loi Choi Yee, Noor Arina Nadiah Abdul Razak, Nur Syahana Shaharudin and Tan Ai Choo</a:t>
            </a:r>
            <a:endParaRPr b="0" lang="en-US" sz="2400" spc="-1" strike="noStrike">
              <a:solidFill>
                <a:srgbClr val="000000"/>
              </a:solidFill>
              <a:latin typeface="Arial"/>
            </a:endParaRPr>
          </a:p>
        </p:txBody>
      </p:sp>
      <p:sp>
        <p:nvSpPr>
          <p:cNvPr id="84" name=""/>
          <p:cNvSpPr txBox="1"/>
          <p:nvPr/>
        </p:nvSpPr>
        <p:spPr>
          <a:xfrm>
            <a:off x="1752480" y="3962520"/>
            <a:ext cx="5410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d Plus Min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3"/>
          <a:stretch/>
        </p:blipFill>
        <p:spPr>
          <a:xfrm>
            <a:off x="3048120" y="1676520"/>
            <a:ext cx="4419360" cy="21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rot="320400">
            <a:off x="609480" y="1523520"/>
            <a:ext cx="8001000" cy="3200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rPr>
              <a:t>What is research?</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ea typeface="JasmineUP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28600" y="0"/>
            <a:ext cx="8534520" cy="87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rPr>
              <a:t>Research</a:t>
            </a:r>
            <a:r>
              <a:rPr b="0" lang="en-US" sz="4800" spc="-1" strike="noStrike">
                <a:solidFill>
                  <a:srgbClr val="000000"/>
                </a:solidFill>
                <a:latin typeface="Comic Sans MS"/>
              </a:rPr>
              <a:t> can be defined as</a:t>
            </a:r>
            <a:endParaRPr b="0" lang="en-US" sz="48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igent inquiry or examination to seek or revise facts, principles, theories, applications, etc; laborious or continued search after truth</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tionary</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tudy a subject in detail, especially in order to discover new facts or test new idea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Longman Diction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txBox="1"/>
          <p:nvPr/>
        </p:nvSpPr>
        <p:spPr>
          <a:xfrm>
            <a:off x="762120" y="228600"/>
            <a:ext cx="7162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r focu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9" name=""/>
          <p:cNvSpPr/>
          <p:nvPr/>
        </p:nvSpPr>
        <p:spPr>
          <a:xfrm>
            <a:off x="838080" y="1981080"/>
            <a:ext cx="7620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esearch done to study the effects of technology use on teaching and learning of mathema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880"/>
            <a:ext cx="754380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blipFill rotWithShape="0">
                  <a:blip r:embed="rId2"/>
                  <a:srcRect/>
                  <a:tile tx="0" ty="0" sx="100000" sy="100000" algn="ctr"/>
                </a:blipFill>
                <a:effectLst>
                  <a:outerShdw dist="153753" dir="2700000" blurRad="0" rotWithShape="0">
                    <a:srgbClr val="875b0d">
                      <a:alpha val="70000"/>
                    </a:srgbClr>
                  </a:outerShdw>
                </a:effectLst>
                <a:latin typeface="DejaVu LGC Sans"/>
              </a:rPr>
              <a:t>Findings...</a:t>
            </a:r>
            <a:endParaRPr b="1" lang="en-US" sz="1800" spc="1" strike="noStrike">
              <a:ln w="12600">
                <a:solidFill>
                  <a:srgbClr val="b2b2b2"/>
                </a:solidFill>
                <a:miter/>
              </a:ln>
              <a:blipFill rotWithShape="0">
                <a:blip r:embed="rId3"/>
                <a:srcRect/>
                <a:tile tx="0" ty="0" sx="100000" sy="100000" algn="ctr"/>
              </a:blipFill>
              <a:effectLst>
                <a:outerShdw dist="153753" dir="2700000" blurRad="0" rotWithShape="0">
                  <a:srgbClr val="875b0d">
                    <a:alpha val="70000"/>
                  </a:srgbClr>
                </a:outerShdw>
              </a:effectLst>
              <a:latin typeface="DejaVu LGC Sans"/>
              <a:ea typeface="DejaVu LGC Sans"/>
            </a:endParaRPr>
          </a:p>
        </p:txBody>
      </p:sp>
      <p:sp>
        <p:nvSpPr>
          <p:cNvPr id="52" name="">
            <a:hlinkClick r:id="rId4"/>
          </p:cNvPr>
          <p:cNvSpPr/>
          <p:nvPr/>
        </p:nvSpPr>
        <p:spPr>
          <a:xfrm>
            <a:off x="380880" y="36576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eric.ed.gov/ERICDocs/data/ericdocs2sql/content_storage_01/0000019b/80/2a/54/f9.pdf</a:t>
            </a:r>
            <a:endParaRPr b="0" lang="en-US" sz="2800" spc="-1" strike="noStrike">
              <a:solidFill>
                <a:srgbClr val="000000"/>
              </a:solidFill>
              <a:latin typeface="Arial"/>
            </a:endParaRPr>
          </a:p>
        </p:txBody>
      </p:sp>
      <p:sp>
        <p:nvSpPr>
          <p:cNvPr id="53" name=""/>
          <p:cNvSpPr/>
          <p:nvPr/>
        </p:nvSpPr>
        <p:spPr>
          <a:xfrm>
            <a:off x="304920" y="1676520"/>
            <a:ext cx="8076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hematics Education Research journal (arti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contrast="-54000"/>
          </a:blip>
          <a:stretch/>
        </p:blipFill>
        <p:spPr>
          <a:xfrm>
            <a:off x="0" y="0"/>
            <a:ext cx="9144000" cy="6858000"/>
          </a:xfrm>
          <a:prstGeom prst="rect">
            <a:avLst/>
          </a:prstGeom>
          <a:ln w="0">
            <a:noFill/>
          </a:ln>
        </p:spPr>
      </p:pic>
      <p:sp>
        <p:nvSpPr>
          <p:cNvPr id="55" name=""/>
          <p:cNvSpPr txBox="1"/>
          <p:nvPr/>
        </p:nvSpPr>
        <p:spPr>
          <a:xfrm>
            <a:off x="228600" y="457200"/>
            <a:ext cx="83059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800000"/>
                </a:solidFill>
                <a:effectLst>
                  <a:outerShdw dist="17819" dir="2700000" blurRad="0" rotWithShape="0">
                    <a:srgbClr val="990000"/>
                  </a:outerShdw>
                </a:effectLst>
                <a:latin typeface="Papyrus"/>
              </a:rPr>
              <a:t>About the article..</a:t>
            </a:r>
            <a:endParaRPr b="1" lang="en-US" sz="1800" spc="1" strike="noStrike">
              <a:ln w="19080">
                <a:solidFill>
                  <a:srgbClr val="99ccff"/>
                </a:solidFill>
                <a:miter/>
              </a:ln>
              <a:solidFill>
                <a:srgbClr val="800000"/>
              </a:solidFill>
              <a:effectLst>
                <a:outerShdw dist="17819" dir="2700000" blurRad="0" rotWithShape="0">
                  <a:srgbClr val="99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23760"/>
            <a:ext cx="9144000" cy="6881760"/>
          </a:xfrm>
          <a:prstGeom prst="rect">
            <a:avLst/>
          </a:prstGeom>
          <a:ln w="0">
            <a:noFill/>
          </a:ln>
        </p:spPr>
      </p:pic>
      <p:sp>
        <p:nvSpPr>
          <p:cNvPr id="57" name=""/>
          <p:cNvSpPr/>
          <p:nvPr/>
        </p:nvSpPr>
        <p:spPr>
          <a:xfrm>
            <a:off x="914400" y="838080"/>
            <a:ext cx="754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article focuses on classroom usage of technology in particular, on new electronic computing media. It also discusses several conceptual frameworks through which classroom technology usage and its effects on learning might be viewed.</a:t>
            </a:r>
            <a:r>
              <a:rPr b="0" lang="en-US" sz="3200" spc="-1" strike="noStrike">
                <a:solidFill>
                  <a:srgbClr val="000000"/>
                </a:solidFill>
                <a:latin typeface="Arial"/>
              </a:rPr>
              <a:t> </a:t>
            </a:r>
            <a:r>
              <a:rPr b="0" lang="en-US" sz="3200" spc="-1" strike="noStrike">
                <a:solidFill>
                  <a:srgbClr val="000000"/>
                </a:solidFill>
                <a:latin typeface="Comic Sans MS"/>
              </a:rPr>
              <a:t>There are also questions posted along the article for further clar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04920" y="1219320"/>
            <a:ext cx="84582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Comic Sans MS"/>
              </a:rPr>
              <a:t>Generally, technology is now commonly used in classrooms and this integration of technology helps in enhancing the teaching and learning of mathematic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33520" y="1066680"/>
            <a:ext cx="83818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What are the effects </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on teaching and learning of</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 </a:t>
            </a:r>
            <a:r>
              <a:rPr b="1" lang="en-US" sz="1800" spc="1" strike="noStrike">
                <a:ln w="0">
                  <a:noFill/>
                </a:ln>
                <a:solidFill>
                  <a:srgbClr val="d60093"/>
                </a:solidFill>
                <a:effectLst>
                  <a:outerShdw dist="17819" dir="2700000" blurRad="0" rotWithShape="0">
                    <a:srgbClr val="c0c0c0">
                      <a:alpha val="80000"/>
                    </a:srgbClr>
                  </a:outerShdw>
                </a:effectLst>
                <a:latin typeface="LilyUPC"/>
              </a:rPr>
              <a:t>mathematics?</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6:09:13Z</dcterms:created>
  <dc:creator>HYUNDAI</dc:creator>
  <dc:description/>
  <dc:language>en-US</dc:language>
  <cp:lastModifiedBy>Rural Distance</cp:lastModifiedBy>
  <dcterms:modified xsi:type="dcterms:W3CDTF">2009-03-19T10:31:01Z</dcterms:modified>
  <cp:revision>6</cp:revision>
  <dc:subject/>
  <dc:title>Research on the effects of technology use on the teaching and learning of mathematics</dc:title>
</cp:coreProperties>
</file>